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5AA-ED2D-46F1-8919-50D01C76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53D-F186-48B7-B9DF-7511AA49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E6C-DCC7-4D3B-8ED0-76C50C44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554-6DA9-48BC-86DE-CF066544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F21-1B4A-4580-90E6-99AA251E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C72-3129-48D9-A9C4-5CF956D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8BF-C3D7-4B3E-AD76-76F08E7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3CD-8737-424F-A983-DEE0D56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443-6DE1-4F1B-90D5-CE191F8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01C-E94E-411F-B118-7A6202B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2FC-F8A9-4FED-B1BA-163815C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135-0158-43C2-849F-0B7DF9D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769-FAC6-4A45-B525-84D74BC1CDC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The Systems Model For Indust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nputs/Processes/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emeraldinsight.com/content_images/fig/0680130505002.png"/>
          <p:cNvPicPr/>
          <p:nvPr/>
        </p:nvPicPr>
        <p:blipFill>
          <a:blip r:embed="rId1"/>
          <a:stretch/>
        </p:blipFill>
        <p:spPr>
          <a:xfrm>
            <a:off x="179280" y="1773360"/>
            <a:ext cx="8829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nputs/Processes/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divided into two groups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naturally occurring things such as water, raw materials and the 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m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ltural In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ings like money, labour, and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pu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the actions within the industry that change the raw materials into the finished product. For instance, all the processes needed to change pieces of wood into a ch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pu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negative or positive, although they are usually the latter. Negative outputs include waste products, such as off-cuts. The positive outputs are the finished product and the money gained from the sale of that produ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what is put back into th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two examples of this are money, from the sale of the finished product, and knowledge, gained from the whole manufacturing pro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nowledge could then be used to make the product better of improve the efficiency of the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53:22Z</dcterms:created>
  <dc:creator>Dell_02</dc:creator>
  <dc:description/>
  <dc:language>en-US</dc:language>
  <cp:lastModifiedBy>Dell_02</cp:lastModifiedBy>
  <dcterms:modified xsi:type="dcterms:W3CDTF">2011-01-27T03:05:48Z</dcterms:modified>
  <cp:revision>2</cp:revision>
  <dc:subject/>
  <dc:title>The Systems Model For Industry</dc:title>
</cp:coreProperties>
</file>